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12D5-49C3-4683-9C77-BC18FDC01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4BB6-7416-4732-AD9F-C7E77ACF8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6511-AF11-410A-9E9F-AD98E8889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imals.nationalgeographic.com/animals/fish/anglerfis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D18B-3133-490F-BD77-2D349BA58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pin.primate.wisc.edu/factsheets/image/358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A4FD-18E9-474B-BB1F-579DC1FF8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005C-5A18-432F-B477-B16A5581D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en.wikipedia.org/wiki/Synsepalum_dulcif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fter it is consumed, this berry makes sour foods taste sweet. What are possible applic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The Octonauts: http://www.bbc.co.uk/cbeebies/programmes/schedules/2015/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7191-E4B8-4350-AC1E-9AA6592FF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: https://www.ted.com/talks/louie_schwartzberg_the_hidden_beauty_of_poll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760D-2E6D-475E-A052-E0067A8F0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744C-1A61-44B9-A6F5-7255FF55C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CE88-6427-4E11-BD6A-378906AC0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taken from: http://www.greenrooftechnology.com/bio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A6C7-0A8E-4D78-AA45-794B519F1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D2D4-959A-4E1C-B866-4AA980BBA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telegraph.co.uk/news/newstopics/howaboutthat/4979164/Pink-dolphin-leads-list-of-top-ten-weird-and-wonderful-animal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669A-3BAA-4556-BAA0-108EDA3B0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elistmania.com/juice/10_animals_with_odd_and_funny_defenses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E664-C4EF-4791-AB8D-0C4669843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kaisoumizu.blogspot.com/2009/12/night-at-museum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2F46-D0B4-40A7-BB33-49A49F3B8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media.photobucket.com/image/dumbo+octopus/Rkohaku/dumbo-octopus.jp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4A1B-5DA8-42BD-BC29-568D9BCC2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amazingdata.com/worlds-strangest-looking-animals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97C-BEB8-4A21-8F02-824EDA3D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2AD-B810-4427-8057-D97A36EF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D10-1635-467C-B565-9068EDA0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81E8-47A0-4AEF-B198-8E536D17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468-0EFF-405A-9F38-7C29F87C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F6B-0148-4CFC-8E41-52BBD58F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99F6-4E08-4D92-8640-8DF63B39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62D-3313-4208-AB65-651ED904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F76-7DEE-4D98-8D22-43EA502C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CE8C-955F-42E8-8AAB-58570C74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A7F-0F53-497C-BD50-00E95250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665-691D-47C7-AA80-59B8F8A0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4046-20ED-47E9-B938-22E2871F7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ted.com/talks/louie_schwartzberg_the_hidden_beauty_of_pollination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ersity of Living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Bio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ler 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ngler-fish_222_600x450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e-faced Saki mon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358lg"/>
          <p:cNvPicPr/>
          <p:nvPr/>
        </p:nvPicPr>
        <p:blipFill>
          <a:blip r:embed="rId1"/>
          <a:stretch/>
        </p:blipFill>
        <p:spPr>
          <a:xfrm>
            <a:off x="1500120" y="1981080"/>
            <a:ext cx="6143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use could we hav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racle Frui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ontent Placeholder 2" descr="miraclefruit1.jpg"/>
          <p:cNvPicPr/>
          <p:nvPr/>
        </p:nvPicPr>
        <p:blipFill>
          <a:blip r:embed="rId1"/>
          <a:srcRect l="-16100" t="0" r="-16100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es Inte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Content Placeholder 3" descr="p01j3xns.jpg"/>
          <p:cNvPicPr/>
          <p:nvPr/>
        </p:nvPicPr>
        <p:blipFill>
          <a:blip r:embed="rId1"/>
          <a:srcRect l="0" t="-28157" r="0" b="-28157"/>
          <a:stretch/>
        </p:blipFill>
        <p:spPr>
          <a:xfrm>
            <a:off x="3419640" y="1773360"/>
            <a:ext cx="532584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In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699920"/>
            <a:ext cx="77025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important to appreciate the interactions of living organisms to understand the importance of preserving biodivers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iration in beauty:  Have a look at thi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D Talk &amp; cli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inematographer Louie Schwartzberg about his film called “The Hidden Beauty of Pollina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biodivers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al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tic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Biodiversity"/>
          <p:cNvPicPr/>
          <p:nvPr/>
        </p:nvPicPr>
        <p:blipFill>
          <a:blip r:embed="rId1"/>
          <a:stretch/>
        </p:blipFill>
        <p:spPr>
          <a:xfrm>
            <a:off x="685800" y="977760"/>
            <a:ext cx="77724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biodiversity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maintain populations of organism such 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-nosed m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Star-Nosed-Mole_1365176c"/>
          <p:cNvPicPr/>
          <p:nvPr/>
        </p:nvPicPr>
        <p:blipFill>
          <a:blip r:embed="rId1"/>
          <a:stretch/>
        </p:blipFill>
        <p:spPr>
          <a:xfrm>
            <a:off x="1284120" y="1981080"/>
            <a:ext cx="6573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g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Hagfish"/>
          <p:cNvPicPr/>
          <p:nvPr/>
        </p:nvPicPr>
        <p:blipFill>
          <a:blip r:embed="rId1"/>
          <a:stretch/>
        </p:blipFill>
        <p:spPr>
          <a:xfrm>
            <a:off x="1913040" y="1981080"/>
            <a:ext cx="531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ttle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uttlefish_mike-bartick"/>
          <p:cNvPicPr/>
          <p:nvPr/>
        </p:nvPicPr>
        <p:blipFill>
          <a:blip r:embed="rId1"/>
          <a:stretch/>
        </p:blipFill>
        <p:spPr>
          <a:xfrm>
            <a:off x="1822320" y="1981080"/>
            <a:ext cx="5499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mbo octop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dumbo-octopus"/>
          <p:cNvPicPr/>
          <p:nvPr/>
        </p:nvPicPr>
        <p:blipFill>
          <a:blip r:embed="rId1"/>
          <a:stretch/>
        </p:blipFill>
        <p:spPr>
          <a:xfrm>
            <a:off x="2529000" y="1981080"/>
            <a:ext cx="4084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ll-necked liz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200907082220431710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8T05:10:11Z</dcterms:created>
  <dc:creator>rubina khan</dc:creator>
  <dc:description/>
  <dc:language>en-US</dc:language>
  <cp:lastModifiedBy>rubina khan</cp:lastModifiedBy>
  <dcterms:modified xsi:type="dcterms:W3CDTF">2017-03-08T13:32:02Z</dcterms:modified>
  <cp:revision>55</cp:revision>
  <dc:subject/>
  <dc:title>PowerPoint Presentation</dc:title>
</cp:coreProperties>
</file>